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665-D8B0-4FAF-AD4A-6ACA4CBC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193-7C56-487D-87DB-3D3AE70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B43-B029-454E-AAF9-82E05C91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640-68FA-4E7F-9E8D-8B239888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2F4-CAC1-4E7B-A595-DCCAC0ED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1DB-ECAD-4DDC-AB4C-7D1847F6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1B0-F812-4579-8310-CDDCB6EA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4F6-5530-4B28-9551-4EE1F35D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C53-734D-4697-8648-3319F5C7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052-C784-4813-9BA3-6029337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A5E-408D-4B11-A649-8B342F4E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A5B-902D-45AD-9C73-16F7FB1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2E6-8073-4EB8-AF1C-A2D3F39E18B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4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inion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essay read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pattern does this essay u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quantity express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pinion ess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onnect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how support and op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ing Quantity Expres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ats hate water.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ost cats hat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antity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antity expression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quantif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generalization, so that the statement is tr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general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ing quantity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tity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231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 count nou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count nou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ot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ot o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6) Exercise 2. Avoiding overgeneral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Conn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connectors to clarify the relationship between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ors can be used to signal that the second idea will support/contrast the first in some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nnectors that show suppor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ive an example that illustrate the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dd facts or explanations that clarify the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nnectors that show opposi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8) Exercise 3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8) Exercise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t word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imary objective is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to persuade people to change belief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many of them do not want to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is kind of essay, we not only give information but also present an argument with the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ROS (supporting ideas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NS (opposing idea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an argumentative issue. We should clearly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take our stan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write as if we are trying to persuade an opposing audience to adopt new beliefs or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Opinion essa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n essay which presents the author’s point of view on a particular subject supported by reasons and examples. Th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rpo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o convince the reader on a controversial iss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ok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tory, anecdote, question, surprising f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dy paragrap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ing sentenc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acts, reasons, expla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er-argumen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f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tate &amp; reinfo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p.89) The Best Medicin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roduction paragrap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o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dy paragrap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ic sentence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son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er-argument? Refutatio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clusion paragrap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ning? Prediction?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hetorical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er-argument &amp; Refu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s &amp; Opinions &amp; Interpre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資料庫圖表 3" descr=""/>
          <p:cNvPicPr/>
          <p:nvPr/>
        </p:nvPicPr>
        <p:blipFill>
          <a:blip r:embed="rId1"/>
          <a:stretch/>
        </p:blipFill>
        <p:spPr>
          <a:xfrm>
            <a:off x="847800" y="3206880"/>
            <a:ext cx="72421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&amp; Opi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ers state their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then back it up with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ac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70c0"/>
                </a:solidFill>
                <a:latin typeface="Calibri"/>
              </a:rPr>
              <a:t>Antibiotics cure infections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70c0"/>
                </a:solidFill>
                <a:latin typeface="Calibri"/>
              </a:rPr>
              <a:t>Antibiotics are the most important invention of the twentieth centu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ifference btw Fact &amp; Opin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truth that is scientifically proven or generally accep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one point of view among man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statement without extra modifying words.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 sentence with modifying words to show a writer’s viewpoint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rolling ide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1) Distinguish facts and opi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out modifying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terpreting Facts to Support an Opin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inion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ac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terpret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p.91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Opi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Internet tak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oo much ti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way from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amily lif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average adult in the U.S. spend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ix hours per week on the Intern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Interpre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ose six hours could be spend doing family activit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such as gardening, helping children with homework, or playing ga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entence to interpret the fact to support the opin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字方塊 5"/>
          <p:cNvSpPr/>
          <p:nvPr/>
        </p:nvSpPr>
        <p:spPr>
          <a:xfrm>
            <a:off x="928800" y="1357200"/>
            <a:ext cx="3429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ttern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(s) + Refut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字方塊 6"/>
          <p:cNvSpPr/>
          <p:nvPr/>
        </p:nvSpPr>
        <p:spPr>
          <a:xfrm>
            <a:off x="4786200" y="1357200"/>
            <a:ext cx="3429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ttern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(s) + Refutatio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 ide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7"/>
          <p:cNvSpPr/>
          <p:nvPr/>
        </p:nvSpPr>
        <p:spPr>
          <a:xfrm>
            <a:off x="2357280" y="4071960"/>
            <a:ext cx="44294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ttern 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 idea 1  -----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 idea 2  -----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 idea 3  -----&g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1:38:23Z</dcterms:created>
  <dc:creator>Windows 使用者</dc:creator>
  <dc:description/>
  <dc:language>en-US</dc:language>
  <cp:lastModifiedBy>Windows 使用者</cp:lastModifiedBy>
  <dcterms:modified xsi:type="dcterms:W3CDTF">2009-05-01T15:06:38Z</dcterms:modified>
  <cp:revision>21</cp:revision>
  <dc:subject/>
  <dc:title>Unit 4. Opinion Essays</dc:title>
</cp:coreProperties>
</file>